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%E6%84%9F%E5%8F%B9%E6%97%B6%E5%A5%8F%E5%B9%BB%E6%83%B3%E7%A9%BA%E9%97%B4.WAV" ContentType="audio/x-wav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gif" ContentType="image/gif"/>
  <Override PartName="/ppt/media/image16.jpeg" ContentType="image/jpeg"/>
  <Override PartName="/ppt/media/%E6%8C%89%E9%92%AE1.wav" ContentType="audio/x-wav"/>
  <Override PartName="/ppt/media/chimes.wav" ContentType="audio/x-wav"/>
  <Override PartName="/ppt/media/image24.png" ContentType="image/png"/>
  <Override PartName="/ppt/media/image18.jpeg" ContentType="image/jpeg"/>
  <Override PartName="/ppt/media/image21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3.jpeg" ContentType="image/jpeg"/>
  <Override PartName="/ppt/media/%E9%9F%B3%E6%95%881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4B6-F3D0-4024-9E77-90594E2A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B17-DC5F-4A5B-AB84-896E7141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880-62FE-4E4C-B092-97E9FBAA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E26-2CE6-465F-B958-96ED7794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C7B2-0793-41AB-A92D-BAE4DD6A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2A11-83AE-421C-904F-5B65F871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59B5-073C-48D4-A7CB-2A128190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7D73-F52C-43C4-ACAF-52F0C785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1374-35B4-4ED7-A1C5-27AA3575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083D-5DE1-4E25-B467-7402ABBE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0F20-0FF0-4832-8E6F-7F21B64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D74-80C2-4F46-B1E7-23A634F9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65F8-9256-48F3-8AC9-334B0719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F5A4-A5DC-4742-90F9-E5FA624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71CF-8795-43DC-825A-819E5A5A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F396-0352-417C-8B89-406E3C4C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A4C7-FB03-4710-ABF6-5F8CDAED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A216-948F-4D37-9B84-6701B374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364E-90EC-48B4-821F-BB8034FE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3CF7-C9E6-4439-BA3E-0FA7BA6D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E4AB-ECA0-46AC-AFFC-9AED535E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385B-8865-48C5-8329-02CF3881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483-4ADB-4EE4-9A07-00893037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A922-1AA3-47C9-9EED-F690351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C682-43B5-4F9A-AE27-5600BE4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ED7E-8F99-4EE8-8908-418E511E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2324-9601-40B0-97C1-C5F88AE0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4EA0-62C7-4FB8-885C-24CEB5DA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0994-E9CA-4499-82CA-85EC58FE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4E2E-6582-4138-854A-6D72B12E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90C9-1E18-442C-8C5E-6F356963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C7C1-E57D-4AD5-9DFA-EA9F6910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D2B4-A921-4602-BE33-6D199135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681-F187-49E5-B522-88C4AFFD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7FB5-662D-40D7-BFF2-F76522F5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E649-84D6-4A89-969E-97D0FE7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F736-4C0E-4A70-AE4C-BF94EC3D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0861-9160-49F5-8E02-ADB0E2B7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C8FB-FB80-4FAF-9BF4-68515CD6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49887-370D-46E4-B11A-A7D9391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12F7-8667-45C3-9ABA-E9182D5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631F8-A48F-4ED1-9D8E-0A3FCE2D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E075-C38A-46A4-AC0C-45FB3A89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C650D-EA32-4F9E-AE37-B08489C9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415-0939-4ECC-B638-9FC8FEDC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1E12-4989-4F6B-9BFC-4DFA9A45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C1071-2BA7-40E6-BB7C-856D60F6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D245A-82C6-4593-A436-5AB1B7B8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389C-0CAE-4BFE-8ED6-BC260EB8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2414-62BE-4862-B740-B9759F32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517E-4156-466C-95B7-5B550AA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393E9-C6E5-4956-BD77-2FE015E1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946C7-93F3-4F83-8790-2F3A7CB7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3218-4417-47ED-ADE3-DC98EDCD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DC45-C253-4D92-BD48-250D23E9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57F-22EA-4261-AF03-57AAD3AD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D2F6A-ECDD-454A-A32A-06A9626D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CE3-A36B-4BAB-A34D-B34D1C6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371-3E09-4D89-881E-9138A0F6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63E-6AF8-4098-B4F9-697745CC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F17B-BF6C-4120-9D68-656E114A0C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1FF0-9A0C-4626-9248-6AF9D98D96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55CB-BF5F-445E-ABF4-7995A0519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566-D38F-4555-96DA-0D04D1B886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68360" y="3286080"/>
            <a:ext cx="64771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D74A-7F2D-4471-9C50-F11A93C2F9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" Target="slide20.xml"/><Relationship Id="rId7" Type="http://schemas.openxmlformats.org/officeDocument/2006/relationships/image" Target="../media/image16.jpeg"/><Relationship Id="rId8" Type="http://schemas.openxmlformats.org/officeDocument/2006/relationships/slide" Target="slide16.xml"/><Relationship Id="rId9" Type="http://schemas.openxmlformats.org/officeDocument/2006/relationships/image" Target="../media/image16.jpeg"/><Relationship Id="rId10" Type="http://schemas.openxmlformats.org/officeDocument/2006/relationships/slide" Target="slide19.xml"/><Relationship Id="rId11" Type="http://schemas.openxmlformats.org/officeDocument/2006/relationships/image" Target="../media/image16.jpeg"/><Relationship Id="rId12" Type="http://schemas.openxmlformats.org/officeDocument/2006/relationships/slide" Target="slide15.xml"/><Relationship Id="rId13" Type="http://schemas.openxmlformats.org/officeDocument/2006/relationships/image" Target="../media/image16.jpeg"/><Relationship Id="rId14" Type="http://schemas.openxmlformats.org/officeDocument/2006/relationships/slide" Target="slide20.xml"/><Relationship Id="rId15" Type="http://schemas.openxmlformats.org/officeDocument/2006/relationships/image" Target="../media/image16.jpeg"/><Relationship Id="rId16" Type="http://schemas.openxmlformats.org/officeDocument/2006/relationships/slide" Target="slide22.xml"/><Relationship Id="rId17" Type="http://schemas.openxmlformats.org/officeDocument/2006/relationships/image" Target="../media/image16.jpeg"/><Relationship Id="rId18" Type="http://schemas.openxmlformats.org/officeDocument/2006/relationships/slide" Target="slide23.xml"/><Relationship Id="rId19" Type="http://schemas.openxmlformats.org/officeDocument/2006/relationships/image" Target="../media/image16.jpeg"/><Relationship Id="rId20" Type="http://schemas.openxmlformats.org/officeDocument/2006/relationships/slide" Target="slide24.xml"/><Relationship Id="rId21" Type="http://schemas.openxmlformats.org/officeDocument/2006/relationships/image" Target="../media/image16.jpeg"/><Relationship Id="rId22" Type="http://schemas.openxmlformats.org/officeDocument/2006/relationships/slide" Target="slide1.xml"/><Relationship Id="rId2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slide" Target="slide14.xml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slide" Target="slide14.xml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&#25353;&#38062;1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16.jpeg"/><Relationship Id="rId6" Type="http://schemas.openxmlformats.org/officeDocument/2006/relationships/audio" Target="../media/&#24863;&#21497;&#26102;&#22863;&#24187;&#24819;&#31354;&#38388;.WAV"/><Relationship Id="rId7" Type="http://schemas.openxmlformats.org/officeDocument/2006/relationships/audio" Target="../media/&#38899;&#25928;1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826920" y="476280"/>
            <a:ext cx="7048440" cy="5616720"/>
            <a:chOff x="826920" y="476280"/>
            <a:chExt cx="7048440" cy="561672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826920" y="1700280"/>
              <a:ext cx="2268360" cy="43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5003640" y="2060640"/>
              <a:ext cx="287172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 txBox="1"/>
            <p:nvPr/>
          </p:nvSpPr>
          <p:spPr>
            <a:xfrm>
              <a:off x="1979280" y="476280"/>
              <a:ext cx="45370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宋体"/>
                </a:rPr>
                <a:t>17  </a:t>
              </a: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宋体"/>
                </a:rPr>
                <a:t>孔子拜师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44720" y="476280"/>
            <a:ext cx="709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101520" y="14860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20680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感情地朗读课文，在读中了解孔子拜师的经过，激发对大思想家孔子和老子的崇敬之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积累课文中的好词佳句，能查字典，联系生活或结合上下文等方法理解词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-33480" y="1052640"/>
            <a:ext cx="9071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自学指导：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请同学大声地朗读课文，思考：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文章讲了一件什么事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分钟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后看谁回答得正确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189000"/>
            <a:ext cx="95029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课文讲了古代著名的思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想家、教育家孔子历尽艰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辛前往洛阳拜老子为师的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事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4076640"/>
            <a:ext cx="2159280" cy="18003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5950080"/>
            <a:ext cx="685800" cy="514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11280" y="333360"/>
            <a:ext cx="770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26028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人们佩服孔子和老子的学问，也        敬重他们的品行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2360" y="2781360"/>
            <a:ext cx="8137440" cy="2362320"/>
          </a:xfrm>
          <a:prstGeom prst="wedgeEllipseCallout">
            <a:avLst>
              <a:gd name="adj1" fmla="val -39231"/>
              <a:gd name="adj2" fmla="val 64583"/>
            </a:avLst>
          </a:prstGeom>
          <a:solidFill>
            <a:srgbClr val="ffe1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人们敬重孔子和老子的什么品行？我们快到课文里找一找吧！画出相关的语句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5084640"/>
            <a:ext cx="760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1280" y="836640"/>
            <a:ext cx="72756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同桌交流：读读自己划的句子，说说自己的感受与同学分享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171360" y="5805360"/>
            <a:ext cx="711000" cy="792360"/>
            <a:chOff x="-171360" y="5805360"/>
            <a:chExt cx="711000" cy="792360"/>
          </a:xfrm>
        </p:grpSpPr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-171360" y="5805360"/>
              <a:ext cx="71100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-33840" y="5987880"/>
              <a:ext cx="46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cc"/>
                  </a:solidFill>
                  <a:latin typeface="Arial"/>
                </a:rPr>
                <a:t>年轻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55640" y="5877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826920" y="602136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从此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71640" y="5877000"/>
            <a:ext cx="720720" cy="736200"/>
            <a:chOff x="2771640" y="5877000"/>
            <a:chExt cx="720720" cy="736200"/>
          </a:xfrm>
        </p:grpSpPr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2771640" y="587700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>
              <a:hlinkClick r:id="rId6" action="ppaction://hlinksldjump"/>
            </p:cNvPr>
            <p:cNvSpPr/>
            <p:nvPr/>
          </p:nvSpPr>
          <p:spPr>
            <a:xfrm>
              <a:off x="2916000" y="6093000"/>
              <a:ext cx="28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cc"/>
                  </a:solidFill>
                  <a:latin typeface="Arial"/>
                </a:rPr>
                <a:t>孔丘</a:t>
              </a:r>
              <a:endParaRPr b="0" lang="en-US" sz="1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924360" y="5877000"/>
            <a:ext cx="720720" cy="720720"/>
            <a:chOff x="3924360" y="5877000"/>
            <a:chExt cx="720720" cy="720720"/>
          </a:xfrm>
        </p:grpSpPr>
        <p:pic>
          <p:nvPicPr>
            <p:cNvPr id="249" name="" descr=""/>
            <p:cNvPicPr/>
            <p:nvPr/>
          </p:nvPicPr>
          <p:blipFill>
            <a:blip r:embed="rId7"/>
            <a:stretch/>
          </p:blipFill>
          <p:spPr>
            <a:xfrm>
              <a:off x="3924360" y="587700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>
              <a:hlinkClick r:id="rId8" action="ppaction://hlinksldjump"/>
            </p:cNvPr>
            <p:cNvSpPr/>
            <p:nvPr/>
          </p:nvSpPr>
          <p:spPr>
            <a:xfrm>
              <a:off x="4140360" y="6021360"/>
              <a:ext cx="32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cc"/>
                  </a:solidFill>
                  <a:latin typeface="Arial"/>
                </a:rPr>
                <a:t>相距</a:t>
              </a:r>
              <a:endParaRPr b="0" lang="en-US" sz="1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5950080"/>
            <a:ext cx="720720" cy="720720"/>
            <a:chOff x="4932360" y="5950080"/>
            <a:chExt cx="720720" cy="720720"/>
          </a:xfrm>
        </p:grpSpPr>
        <p:pic>
          <p:nvPicPr>
            <p:cNvPr id="252" name="" descr=""/>
            <p:cNvPicPr/>
            <p:nvPr/>
          </p:nvPicPr>
          <p:blipFill>
            <a:blip r:embed="rId9"/>
            <a:stretch/>
          </p:blipFill>
          <p:spPr>
            <a:xfrm>
              <a:off x="4932360" y="595008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>
              <a:hlinkClick r:id="rId10" action="ppaction://hlinksldjump"/>
            </p:cNvPr>
            <p:cNvSpPr/>
            <p:nvPr/>
          </p:nvSpPr>
          <p:spPr>
            <a:xfrm>
              <a:off x="5148360" y="6166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想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-171360" y="5805360"/>
            <a:ext cx="711000" cy="792360"/>
            <a:chOff x="-171360" y="5805360"/>
            <a:chExt cx="711000" cy="792360"/>
          </a:xfrm>
        </p:grpSpPr>
        <p:pic>
          <p:nvPicPr>
            <p:cNvPr id="255" name="" descr=""/>
            <p:cNvPicPr/>
            <p:nvPr/>
          </p:nvPicPr>
          <p:blipFill>
            <a:blip r:embed="rId11"/>
            <a:stretch/>
          </p:blipFill>
          <p:spPr>
            <a:xfrm>
              <a:off x="-171360" y="5805360"/>
              <a:ext cx="71100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>
              <a:hlinkClick r:id="rId12" action="ppaction://hlinksldjump"/>
            </p:cNvPr>
            <p:cNvSpPr/>
            <p:nvPr/>
          </p:nvSpPr>
          <p:spPr>
            <a:xfrm>
              <a:off x="-33840" y="5987880"/>
              <a:ext cx="46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cc"/>
                  </a:solidFill>
                  <a:latin typeface="Arial"/>
                </a:rPr>
                <a:t>年轻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826920" y="602136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从此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84360" y="5877000"/>
            <a:ext cx="1871640" cy="736200"/>
            <a:chOff x="684360" y="5877000"/>
            <a:chExt cx="1871640" cy="736200"/>
          </a:xfrm>
        </p:grpSpPr>
        <p:pic>
          <p:nvPicPr>
            <p:cNvPr id="259" name="" descr=""/>
            <p:cNvPicPr/>
            <p:nvPr/>
          </p:nvPicPr>
          <p:blipFill>
            <a:blip r:embed="rId13"/>
            <a:stretch/>
          </p:blipFill>
          <p:spPr>
            <a:xfrm>
              <a:off x="1835280" y="587700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>
              <a:hlinkClick r:id="rId14" action="ppaction://hlinksldjump"/>
            </p:cNvPr>
            <p:cNvSpPr/>
            <p:nvPr/>
          </p:nvSpPr>
          <p:spPr>
            <a:xfrm>
              <a:off x="1979640" y="6093000"/>
              <a:ext cx="36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cc"/>
                  </a:solidFill>
                  <a:latin typeface="Arial"/>
                </a:rPr>
                <a:t>行礼</a:t>
              </a:r>
              <a:endParaRPr b="0" lang="en-US" sz="1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684360" y="5877000"/>
              <a:ext cx="720720" cy="720720"/>
              <a:chOff x="684360" y="5877000"/>
              <a:chExt cx="720720" cy="720720"/>
            </a:xfrm>
          </p:grpSpPr>
          <p:pic>
            <p:nvPicPr>
              <p:cNvPr id="2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4360" y="587700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>
                <a:hlinkClick r:id="rId16" action="ppaction://hlinksldjump"/>
              </p:cNvPr>
              <p:cNvSpPr/>
              <p:nvPr/>
            </p:nvSpPr>
            <p:spPr>
              <a:xfrm>
                <a:off x="827280" y="6021360"/>
                <a:ext cx="43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33cc"/>
                    </a:solidFill>
                    <a:latin typeface="Arial"/>
                  </a:rPr>
                  <a:t>从此</a:t>
                </a:r>
                <a:endParaRPr b="0" lang="en-US" sz="1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101080" y="333360"/>
            <a:ext cx="720720" cy="720720"/>
            <a:chOff x="8101080" y="333360"/>
            <a:chExt cx="720720" cy="720720"/>
          </a:xfrm>
        </p:grpSpPr>
        <p:pic>
          <p:nvPicPr>
            <p:cNvPr id="265" name="" descr=""/>
            <p:cNvPicPr/>
            <p:nvPr/>
          </p:nvPicPr>
          <p:blipFill>
            <a:blip r:embed="rId17"/>
            <a:stretch/>
          </p:blipFill>
          <p:spPr>
            <a:xfrm>
              <a:off x="8101080" y="33336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>
              <a:hlinkClick r:id="rId18" action="ppaction://hlinksldjump"/>
            </p:cNvPr>
            <p:cNvSpPr/>
            <p:nvPr/>
          </p:nvSpPr>
          <p:spPr>
            <a:xfrm>
              <a:off x="8292240" y="476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说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172360" y="1557360"/>
            <a:ext cx="720720" cy="720720"/>
            <a:chOff x="8172360" y="1557360"/>
            <a:chExt cx="720720" cy="720720"/>
          </a:xfrm>
        </p:grpSpPr>
        <p:pic>
          <p:nvPicPr>
            <p:cNvPr id="268" name="" descr=""/>
            <p:cNvPicPr/>
            <p:nvPr/>
          </p:nvPicPr>
          <p:blipFill>
            <a:blip r:embed="rId19"/>
            <a:stretch/>
          </p:blipFill>
          <p:spPr>
            <a:xfrm>
              <a:off x="8172360" y="155736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>
              <a:hlinkClick r:id="rId20" action="ppaction://hlinksldjump"/>
            </p:cNvPr>
            <p:cNvSpPr/>
            <p:nvPr/>
          </p:nvSpPr>
          <p:spPr>
            <a:xfrm>
              <a:off x="8388360" y="1700280"/>
              <a:ext cx="32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cc"/>
                  </a:solidFill>
                  <a:latin typeface="Arial"/>
                </a:rPr>
                <a:t>传授</a:t>
              </a:r>
              <a:endParaRPr b="0" lang="en-US" sz="1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659640" y="4076640"/>
            <a:ext cx="1728720" cy="1297080"/>
            <a:chOff x="6659640" y="4076640"/>
            <a:chExt cx="1728720" cy="1297080"/>
          </a:xfrm>
        </p:grpSpPr>
        <p:pic>
          <p:nvPicPr>
            <p:cNvPr id="271" name="" descr=""/>
            <p:cNvPicPr/>
            <p:nvPr/>
          </p:nvPicPr>
          <p:blipFill>
            <a:blip r:embed="rId21"/>
            <a:stretch/>
          </p:blipFill>
          <p:spPr>
            <a:xfrm>
              <a:off x="6659640" y="4076640"/>
              <a:ext cx="1728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>
              <a:hlinkClick r:id="rId22" action="ppaction://hlinksldjump"/>
            </p:cNvPr>
            <p:cNvSpPr/>
            <p:nvPr/>
          </p:nvSpPr>
          <p:spPr>
            <a:xfrm>
              <a:off x="6948720" y="450828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下一页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44360" y="765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孔子年轻的时候，就已经是远近闻名的老师了。他总觉得自己的知识还不够渊博，三十岁的时候，他离开家乡曲阜，去洛阳拜大思想家老子为师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348000" y="4869000"/>
            <a:ext cx="1512720" cy="1224000"/>
            <a:chOff x="3348000" y="4869000"/>
            <a:chExt cx="1512720" cy="122400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3348000" y="4869000"/>
              <a:ext cx="1512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>
              <a:hlinkClick r:id="rId4" action="ppaction://hlinksldjump"/>
            </p:cNvPr>
            <p:cNvSpPr/>
            <p:nvPr/>
          </p:nvSpPr>
          <p:spPr>
            <a:xfrm>
              <a:off x="3779640" y="522936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57360" y="3656160"/>
            <a:ext cx="34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谦虚好学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66560" y="1413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曲阜和洛阳相距上千里，孔子风餐露宿，日夜兼程，几个月后，终于走到了洛阳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348000" y="4869000"/>
            <a:ext cx="1512720" cy="1224000"/>
            <a:chOff x="3348000" y="4869000"/>
            <a:chExt cx="1512720" cy="122400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3348000" y="4869000"/>
              <a:ext cx="1512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>
              <a:hlinkClick r:id="rId4" action="ppaction://hlinksldjump"/>
            </p:cNvPr>
            <p:cNvSpPr/>
            <p:nvPr/>
          </p:nvSpPr>
          <p:spPr>
            <a:xfrm>
              <a:off x="3779640" y="522936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900000" y="3573360"/>
            <a:ext cx="735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不畏艰辛、吃苦耐劳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56360" y="357336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08720" y="378936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94036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曲阜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7960" y="43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洛阳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835280" y="162000"/>
            <a:ext cx="6481800" cy="6362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rot="20617200">
            <a:off x="3492000" y="4221000"/>
            <a:ext cx="2521080" cy="92160"/>
          </a:xfrm>
          <a:prstGeom prst="leftArrow">
            <a:avLst>
              <a:gd name="adj1" fmla="val 50000"/>
              <a:gd name="adj2" fmla="val 68388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92428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4920" y="364500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659640" y="3213000"/>
            <a:ext cx="2163600" cy="2808360"/>
            <a:chOff x="6659640" y="3213000"/>
            <a:chExt cx="2163600" cy="280836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6659640" y="3213000"/>
              <a:ext cx="21636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317080" y="3213000"/>
              <a:ext cx="50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  <a:ea typeface="方正粗倩简体"/>
                </a:rPr>
                <a:t>孔子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9280" y="1413000"/>
            <a:ext cx="2448000" cy="5182920"/>
            <a:chOff x="179280" y="1413000"/>
            <a:chExt cx="2448000" cy="5182920"/>
          </a:xfrm>
        </p:grpSpPr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179280" y="1413000"/>
              <a:ext cx="2448000" cy="51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50560" y="14839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方正粗倩简体"/>
                </a:rPr>
                <a:t>老子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932360" y="5518080"/>
            <a:ext cx="1512720" cy="1222560"/>
            <a:chOff x="4932360" y="5518080"/>
            <a:chExt cx="1512720" cy="1222560"/>
          </a:xfrm>
        </p:grpSpPr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4932360" y="5518080"/>
              <a:ext cx="151272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5364000" y="587772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8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4%9F%E5%8F%B9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9%9F%B3%E6%95%8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17440" y="8254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孔子想：这位老人大概就是我要拜访的老师吧！于是上前行礼，问道：“老人家，您就是老聃先生吧？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348000" y="4869000"/>
            <a:ext cx="1512720" cy="1224000"/>
            <a:chOff x="3348000" y="4869000"/>
            <a:chExt cx="1512720" cy="1224000"/>
          </a:xfrm>
        </p:grpSpPr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3348000" y="4869000"/>
              <a:ext cx="1512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779640" y="522936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832040" y="3357720"/>
            <a:ext cx="526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谦虚、有礼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14130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孔子，名丘，字仲尼，生活在两千多年前的春秋时代，他是我国伟大的思想家和教育家，儒家学派的创始人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900000" y="1052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孔子连忙说：“学生孔丘，特地来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Arial"/>
              </a:rPr>
              <a:t>拜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老师，请收下我这个学生。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348000" y="4869000"/>
            <a:ext cx="1512720" cy="1224000"/>
            <a:chOff x="3348000" y="4869000"/>
            <a:chExt cx="1512720" cy="1224000"/>
          </a:xfrm>
        </p:grpSpPr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3348000" y="4869000"/>
              <a:ext cx="1512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779640" y="522936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193760" y="3711600"/>
            <a:ext cx="705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谦虚、有礼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11280" y="105264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孔子听了再次行礼，说：“多谢老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等候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是没有止境的。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您的学问渊博，跟您学习，一定会大有长进的。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348000" y="4869000"/>
            <a:ext cx="1512720" cy="1224000"/>
            <a:chOff x="3348000" y="4869000"/>
            <a:chExt cx="1512720" cy="122400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3348000" y="4869000"/>
              <a:ext cx="1512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779640" y="522936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539720" y="3946680"/>
            <a:ext cx="584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谦虚好学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9640" y="765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从此，孔子每天不离老师左右，随时请教。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348000" y="4869000"/>
            <a:ext cx="1512720" cy="1224000"/>
            <a:chOff x="3348000" y="4869000"/>
            <a:chExt cx="1512720" cy="122400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3348000" y="4869000"/>
              <a:ext cx="1512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779640" y="522936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776240" y="2838600"/>
            <a:ext cx="46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谦虚好学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50920" y="1125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老子说：“你就是仲尼啊，听说你要来，我就在这儿迎候。研究学问你不比我差，为什么还要拜我为师呢？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348000" y="4869000"/>
            <a:ext cx="1512720" cy="1224000"/>
            <a:chOff x="3348000" y="4869000"/>
            <a:chExt cx="1512720" cy="1224000"/>
          </a:xfrm>
        </p:grpSpPr>
        <p:pic>
          <p:nvPicPr>
            <p:cNvPr id="330" name="" descr=""/>
            <p:cNvPicPr/>
            <p:nvPr/>
          </p:nvPicPr>
          <p:blipFill>
            <a:blip r:embed="rId3"/>
            <a:stretch/>
          </p:blipFill>
          <p:spPr>
            <a:xfrm>
              <a:off x="3348000" y="4869000"/>
              <a:ext cx="1512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3779640" y="522936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284120" y="3875040"/>
            <a:ext cx="696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谦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16000" y="1628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老子也把自己的学问毫无保留地传授给他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348000" y="4869000"/>
            <a:ext cx="1512720" cy="1224000"/>
            <a:chOff x="3348000" y="4869000"/>
            <a:chExt cx="1512720" cy="1224000"/>
          </a:xfrm>
        </p:grpSpPr>
        <p:pic>
          <p:nvPicPr>
            <p:cNvPr id="336" name="" descr=""/>
            <p:cNvPicPr/>
            <p:nvPr/>
          </p:nvPicPr>
          <p:blipFill>
            <a:blip r:embed="rId3"/>
            <a:stretch/>
          </p:blipFill>
          <p:spPr>
            <a:xfrm>
              <a:off x="3348000" y="4869000"/>
              <a:ext cx="1512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779640" y="522936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030320" y="3238560"/>
            <a:ext cx="678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毫无保留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826920" y="1125360"/>
            <a:ext cx="785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这位老人大概就是我要拜访老师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学生特地来拜见老师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348000" y="4869000"/>
            <a:ext cx="1512720" cy="1224000"/>
            <a:chOff x="3348000" y="4869000"/>
            <a:chExt cx="1512720" cy="1224000"/>
          </a:xfrm>
        </p:grpSpPr>
        <p:pic>
          <p:nvPicPr>
            <p:cNvPr id="342" name="" descr=""/>
            <p:cNvPicPr/>
            <p:nvPr/>
          </p:nvPicPr>
          <p:blipFill>
            <a:blip r:embed="rId3"/>
            <a:stretch/>
          </p:blipFill>
          <p:spPr>
            <a:xfrm>
              <a:off x="3348000" y="4869000"/>
              <a:ext cx="1512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779640" y="522936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770120" y="4075200"/>
            <a:ext cx="568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谦虚、有礼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 flipV="1">
            <a:off x="1084320" y="1172880"/>
            <a:ext cx="737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1125360"/>
            <a:ext cx="674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谈谈对孔子、老子的印象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2060640"/>
            <a:ext cx="92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孔子：谦虚好学   吃苦耐劳  不畏艰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314172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老子：毫无保留   诲人不倦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-24300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55640" y="1484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学习是没有止境的。”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你能体会这句话的意思吗？联系你身边的人和发生的事说说吧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781680" y="-684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我会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43800" y="6248520"/>
            <a:ext cx="13716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320" y="-372960"/>
            <a:ext cx="662940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项橐（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tuó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是燕国的一个七岁小孩子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有一天，他见到孔子时问：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什么水没有鱼？什么火没有烟？什么树没有叶？什么花没有枝？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”孔子听后说：“你问得真奇怪，什么水都有鱼；什么火都有烟；至于植物，没有叶不能成树；没有枝也不能开花。”项橐一听格格直笑，晃着脑袋说：“不对。井水没有鱼，萤火没有烟，枯树没有叶，雪花没有枝。”孔子叹道：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后生可畏啊，老夫愿拜你为师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868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孔子拜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629400" y="1752480"/>
            <a:ext cx="2438280" cy="50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55640" y="29098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三人行，必有我师焉</a:t>
            </a: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6858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孔子名言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685800"/>
            <a:ext cx="1600200" cy="15238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332000" y="657360"/>
            <a:ext cx="6192720" cy="4644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19640" y="551664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孔府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6320" y="533520"/>
            <a:ext cx="914400" cy="40384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315720" y="685800"/>
            <a:ext cx="1277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中国传统文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71360" y="2971800"/>
            <a:ext cx="7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探寻之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905120" y="1447920"/>
          <a:ext cx="6553080" cy="403848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研究主题：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孔子、老子的生平故事和名言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小组成员：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工合作（你主要负责的工作）：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获取资料的途径：网上搜寻（  ）翻阅图书（   ）       寻找实物（    ）    实地考察（  ）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你找到的资料：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2895480" y="5335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组专题研究方案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6094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284720" y="53737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京剧艺术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8001000" cy="5676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438280" y="76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民间剪纸艺术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 advTm="2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360" y="536400"/>
            <a:ext cx="6191280" cy="4645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635280" y="5516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孔庙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233280"/>
            <a:ext cx="4572000" cy="3506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74920" y="494172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孔林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000" y="1413000"/>
            <a:ext cx="44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4960" y="4255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第一课时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97160" y="2513160"/>
            <a:ext cx="699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会认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个生字，会写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个生字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能正确、流利地朗读课文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0280" y="662040"/>
            <a:ext cx="863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自学指导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请同学们大声地朗读课文，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借助字典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解决不认识的字或者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同桌帮助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分钟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后抽生轮读，比一比谁读得棒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171360" y="44280"/>
            <a:ext cx="93852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4000" y="14130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日夜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兼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程 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毫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无保留       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00080" y="260280"/>
            <a:ext cx="554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800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我会写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8720" y="1628640"/>
            <a:ext cx="8016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远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闻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名            风尘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仆仆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纳闷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       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丘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迎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候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等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候                     学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止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境             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品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2:34:29Z</dcterms:created>
  <dc:creator>hyj</dc:creator>
  <dc:description/>
  <cp:keywords/>
  <dc:language>en-US</dc:language>
  <cp:lastModifiedBy>微软用户</cp:lastModifiedBy>
  <cp:lastPrinted>1899-12-30T00:00:00Z</cp:lastPrinted>
  <dcterms:modified xsi:type="dcterms:W3CDTF">2014-10-30T08:16:02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